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7.png" ContentType="image/png"/>
  <Override PartName="/ppt/media/image2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24.jpeg" ContentType="image/jpeg"/>
  <Override PartName="/ppt/media/image15.png" ContentType="image/png"/>
  <Override PartName="/ppt/media/image30.png" ContentType="image/png"/>
  <Override PartName="/ppt/media/image3.jpeg" ContentType="image/jpeg"/>
  <Override PartName="/ppt/media/image12.gif" ContentType="image/gif"/>
  <Override PartName="/ppt/media/image31.png" ContentType="image/png"/>
  <Override PartName="/ppt/media/image13.png" ContentType="image/png"/>
  <Override PartName="/ppt/media/image1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19.jpeg" ContentType="image/jpeg"/>
  <Override PartName="/ppt/media/image21.png" ContentType="image/png"/>
  <Override PartName="/ppt/media/image26.gif" ContentType="image/gif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298D4-3C94-4B2A-9B4E-AC1C4D2E2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1177A-0A37-43B7-BEAB-B2154F7B1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FA8C8-0D20-431A-A47A-49786701B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6947B-19A9-4E1D-83E2-13CEB6A24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A6544-DB45-41A8-9C97-521DB25B7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33CF9-0A12-4C01-B91F-ECC73459D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45ACC-6637-4A86-922E-805C5E8FC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DEF71-822A-4EAD-BDA5-D4ADC8FEB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F141F-868F-454A-958B-0FFAC4155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C94D7-5B26-4058-A6D5-61A7764E9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1C0C3-674A-496D-925E-99C61747F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B6E17-9FA0-4387-88D8-BDADB2D48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20B9A-D9C6-4754-B63E-FC4DE94F3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1DBD8-D19D-4385-8BDE-4F3CC65C7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EFD54-11DD-46EF-ABA1-9CEC33EEC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109E8-0086-4AB3-A2DB-FAAFC78BF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FA79E-38D7-4084-86A5-0F2EEBD08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BEEA0-2F32-4774-A02A-92FCA620B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A3C35-69C0-4818-9C03-DA6470E5F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05831-6097-4732-B4F1-F8168DE9C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E229C-F835-4382-980C-45F65BD10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6EC20-52F3-4B33-8503-9363DC831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8CE22-3D7B-45BE-8FDD-2F5A0EFF1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1F0D7-3164-4ED9-A52F-63F99FC9D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67657-B43A-4091-83A7-44C1D3A8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E681B-D12A-4E90-A251-9204C9C47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77880-BA15-45D1-8335-7DA2B3A2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7E9AA-ADDC-448F-9C55-DC2907AF5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47785-32BD-4790-A94B-2DAB888FD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B45FA-B917-422C-A116-38F65CDEF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7C065-8ABB-448C-A75B-5E3D4E6BA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785E0-7987-41C2-BEAE-0F8617A78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CC7B2-03F0-4F81-8C3C-9477E918C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E218D-48B7-4471-B0C2-3C4D1AD0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1ED3E-95BC-4A75-8E44-97B444B4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4E7E0-7285-4BE0-AFA4-CBB2EAA0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6FF8F-52D3-445D-9FC8-CA8DB57B0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68D7B-52F9-4127-BE73-FD1BE0140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7CDA9-7760-47F2-9CCA-5265C7D40FA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iequip.org/ce/index.php?module=ContentExpress&amp;func=display&amp;ceid=2&amp;mid=-1" TargetMode="External"/><Relationship Id="rId2" Type="http://schemas.openxmlformats.org/officeDocument/2006/relationships/image" Target="../media/image12.gi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BO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" name="Picture 6" descr="ttp://content.everydayhealth.com/wte3.0/gcms/surprising-labor-and-delivery-facts-woman-in-labor-full.jpg"/>
          <p:cNvPicPr/>
          <p:nvPr/>
        </p:nvPicPr>
        <p:blipFill>
          <a:blip r:embed="rId1"/>
          <a:stretch/>
        </p:blipFill>
        <p:spPr>
          <a:xfrm>
            <a:off x="592200" y="1773360"/>
            <a:ext cx="3384360" cy="33811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"/>
          <p:cNvSpPr/>
          <p:nvPr/>
        </p:nvSpPr>
        <p:spPr>
          <a:xfrm>
            <a:off x="4567320" y="2470320"/>
            <a:ext cx="3673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luya dolor y luch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a buena señal de que algo está por suced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ACIMIEN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s un celebración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7" descr="http://sapiengames.com/wp-content/uploads/2014/09/stork.png"/>
          <p:cNvPicPr/>
          <p:nvPr/>
        </p:nvPicPr>
        <p:blipFill>
          <a:blip r:embed="rId1"/>
          <a:stretch/>
        </p:blipFill>
        <p:spPr>
          <a:xfrm>
            <a:off x="5724360" y="1197000"/>
            <a:ext cx="2737080" cy="3508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"/>
          <p:cNvPicPr/>
          <p:nvPr/>
        </p:nvPicPr>
        <p:blipFill>
          <a:blip r:embed="rId2"/>
          <a:stretch/>
        </p:blipFill>
        <p:spPr>
          <a:xfrm>
            <a:off x="1116000" y="3573360"/>
            <a:ext cx="31845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250920" y="145260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8680" y="260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Recorría Jesús todas las ciudades y aldeas, enseñando en las sinagogas de ellos, y predicando el evangelio del reino, y sanando toda enfermedad y toda dolencia en el pueblo. Y al ver las multitudes, tuvo compasión de ellas; porque estaban desamparadas y dispersas como ovejas que no tienen pastor. Entonces dijo a sus discípulos: A la verdad la mies es mucha, mas los obreros pocos. Rogad, pues, al Señor de la mies, que envíe obreros a su mies. Entonces llamando a sus doce discípulos, les dio autoridad sobre los espíritus inmundos, para que los echasen fuera, y para sanar toda enfermedad y toda dolencia. … A estos doce envió Jesús, y les dio instrucciones, diciendo: …Y yendo, predicad, diciendo: El reino de los cielos se ha acercado. Sanad enfermos, limpiad leprosos, resucitad muertos, echad fuera demonios; de gracia recibisteis, dad de gracia.” (Mateo 9:35-10:8)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0"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óngase activo en 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RVIC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 inicie con obedienci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unique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REVELACIÓ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que ya tie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BSERV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y entienda la realidad de la condición human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mita que Dios le de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RG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or una necesidad específic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 (Mateo 9:35-10:8)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que el diagnóstico divino: ¿CUÁL E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L ASUNTO POR RESOLVER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determinar cual acción puede suplir esa neces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ija un equipo 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ÉLES PO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colabo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OME ACCIÓN INMEDIAT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el     cumplimiento de la vis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0" y="560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voz inspira su visión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0" y="1628640"/>
            <a:ext cx="9144000" cy="34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intern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enoj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éxi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 lo al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5364000" y="4192560"/>
            <a:ext cx="33022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0" y="209700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mienzo fuer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Un tem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Lenguaje sencill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Ilustraci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Final emotiv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6429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lementos para comunicar su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5" descr="http://1.bp.blogspot.com/--PA0ynWyff4/UcZZQi2xbII/AAAAAAAANBM/9k8eZQOOxFw/s1600/%E5%B7%A5%E5%85%B7%E7%AE%B1+Cartoons+toolbox+vector+material+%E3%82%A4%E3%83%A9%E3%82%B9%E3%83%88%E7%B4%A0%E6%9D%90.jpg"/>
          <p:cNvPicPr/>
          <p:nvPr/>
        </p:nvPicPr>
        <p:blipFill>
          <a:blip r:embed="rId1"/>
          <a:stretch/>
        </p:blipFill>
        <p:spPr>
          <a:xfrm>
            <a:off x="5435640" y="4235400"/>
            <a:ext cx="37069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ómo debemos manejar la visió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Véal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LAR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Muéstr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omuníqu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TANTE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6" name="Picture 5" descr="http://images.clipartpanda.com/creativity-clipart-62367-design-mascot-woman-painter.jpg"/>
          <p:cNvPicPr/>
          <p:nvPr/>
        </p:nvPicPr>
        <p:blipFill>
          <a:blip r:embed="rId1"/>
          <a:stretch/>
        </p:blipFill>
        <p:spPr>
          <a:xfrm>
            <a:off x="5916600" y="2492280"/>
            <a:ext cx="31068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8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6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2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FAA71-B3E1-460A-89FD-E447A352D9C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0" y="260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Garamond"/>
              </a:rPr>
              <a:t>Planeación Estratégica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Fallar en planear es un plan para falla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9900"/>
                </a:solidFill>
                <a:latin typeface="Garamond"/>
              </a:rPr>
              <a:t>Leccion #4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6000" spc="-1" strike="noStrike">
                <a:solidFill>
                  <a:srgbClr val="ffcc00"/>
                </a:solidFill>
                <a:latin typeface="Garamond"/>
              </a:rPr>
              <a:t>Pagina 22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-108000" y="4762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Garamond"/>
              </a:rPr>
              <a:t>¡Tengo un sueño!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Capturando e implementando una visión dada por Dio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Lección #3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Pagina 16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E4680-7623-46E8-8327-DADCEECD6B2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0" y="115920"/>
            <a:ext cx="810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jemplos bíblicos de planeació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360360" y="1841400"/>
            <a:ext cx="8748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io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oé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ehemía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avid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Jesús nos dió parábolas sobre el tem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14" descr="mlmsp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4320" y="333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"/>
          <p:cNvPicPr/>
          <p:nvPr/>
        </p:nvPicPr>
        <p:blipFill>
          <a:blip r:embed="rId3"/>
          <a:stretch/>
        </p:blipFill>
        <p:spPr>
          <a:xfrm>
            <a:off x="6019920" y="1911240"/>
            <a:ext cx="2663640" cy="32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5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42880" y="782280"/>
            <a:ext cx="8315280" cy="437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br>
              <a:rPr sz="6000"/>
            </a:br>
            <a:r>
              <a:rPr b="1" lang="es-ES" sz="6000" spc="-1" strike="noStrike">
                <a:solidFill>
                  <a:srgbClr val="ffffff"/>
                </a:solidFill>
                <a:latin typeface="Garamond"/>
              </a:rPr>
              <a:t>Todo ser humano con grandes logros ha incluido un factor divino y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un factor de liderazgo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824F0-2156-438C-9638-BC09259F7DF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6C966-8860-4248-8083-94422A8B5FC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7" name="Picture 8" descr=""/>
          <p:cNvPicPr/>
          <p:nvPr/>
        </p:nvPicPr>
        <p:blipFill>
          <a:blip r:embed="rId1"/>
          <a:stretch/>
        </p:blipFill>
        <p:spPr>
          <a:xfrm>
            <a:off x="3124080" y="115920"/>
            <a:ext cx="2951280" cy="6608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25BBD-3060-4A67-BF1C-907CF050139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Picture 8" descr=""/>
          <p:cNvPicPr/>
          <p:nvPr/>
        </p:nvPicPr>
        <p:blipFill>
          <a:blip r:embed="rId1"/>
          <a:stretch/>
        </p:blipFill>
        <p:spPr>
          <a:xfrm>
            <a:off x="539640" y="44280"/>
            <a:ext cx="8209080" cy="6716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1E06D-7174-481F-97E5-10199B60770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81" name="Group 3"/>
          <p:cNvGrpSpPr/>
          <p:nvPr/>
        </p:nvGrpSpPr>
        <p:grpSpPr>
          <a:xfrm>
            <a:off x="1403280" y="44280"/>
            <a:ext cx="6697800" cy="6697800"/>
            <a:chOff x="1403280" y="44280"/>
            <a:chExt cx="6697800" cy="6697800"/>
          </a:xfrm>
        </p:grpSpPr>
        <p:pic>
          <p:nvPicPr>
            <p:cNvPr id="182" name="Picture 1" descr=""/>
            <p:cNvPicPr/>
            <p:nvPr/>
          </p:nvPicPr>
          <p:blipFill>
            <a:blip r:embed="rId1"/>
            <a:stretch/>
          </p:blipFill>
          <p:spPr>
            <a:xfrm>
              <a:off x="1403280" y="44280"/>
              <a:ext cx="6697800" cy="669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Rectangle 2"/>
            <p:cNvSpPr/>
            <p:nvPr/>
          </p:nvSpPr>
          <p:spPr>
            <a:xfrm>
              <a:off x="4716000" y="3573360"/>
              <a:ext cx="2520720" cy="115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8C051-0C59-407C-9F24-05F45CFEF41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5" name="Picture 1" descr=""/>
          <p:cNvPicPr/>
          <p:nvPr/>
        </p:nvPicPr>
        <p:blipFill>
          <a:blip r:embed="rId1"/>
          <a:stretch/>
        </p:blipFill>
        <p:spPr>
          <a:xfrm>
            <a:off x="1187280" y="85680"/>
            <a:ext cx="6480360" cy="6688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7B250-EAAA-4D8D-B2C2-11261ADFEF7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0" y="692280"/>
            <a:ext cx="9144000" cy="69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¡¡¡ORAR!!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lane pa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LAN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9" name="Picture 9" descr="http://images.onlinelabels.com/images/clip-art/Anonymous/Anonymous_praying_hands.png"/>
          <p:cNvPicPr/>
          <p:nvPr/>
        </p:nvPicPr>
        <p:blipFill>
          <a:blip r:embed="rId1"/>
          <a:stretch/>
        </p:blipFill>
        <p:spPr>
          <a:xfrm>
            <a:off x="4551480" y="907920"/>
            <a:ext cx="1728720" cy="21751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http://3.bp.blogspot.com/-OLRKKawkuyQ/Unj_fI0ogqI/AAAAAAAADpo/EuutEgA8PZw/s1600/meeting1.jpg"/>
          <p:cNvPicPr/>
          <p:nvPr/>
        </p:nvPicPr>
        <p:blipFill>
          <a:blip r:embed="rId2"/>
          <a:stretch/>
        </p:blipFill>
        <p:spPr>
          <a:xfrm>
            <a:off x="5148360" y="3936960"/>
            <a:ext cx="3313080" cy="262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1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5367B-E5FF-49FC-9F4A-68E4B281852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-19080" y="907920"/>
            <a:ext cx="9144000" cy="54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termine su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OPÓSITO PRIMARI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Por qué existimo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¿Qué estamos tratando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de lograr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5580000" y="2349360"/>
            <a:ext cx="331308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0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9FE96-6370-4283-9791-D7419DD99CD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0" y="692280"/>
            <a:ext cx="9144000" cy="44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la situacio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NT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ER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ACTU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TU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rcRect l="2745" t="0" r="6290" b="0"/>
          <a:stretch/>
        </p:blipFill>
        <p:spPr>
          <a:xfrm>
            <a:off x="5432400" y="2647800"/>
            <a:ext cx="3254400" cy="360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0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5941C-AA55-4164-99FD-7E4ED186584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Text Box 2"/>
          <p:cNvSpPr/>
          <p:nvPr/>
        </p:nvSpPr>
        <p:spPr>
          <a:xfrm>
            <a:off x="0" y="801720"/>
            <a:ext cx="91440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IORIC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ecesidade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Haga la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EGUNTA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correcta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2" name="Picture 7" descr=""/>
          <p:cNvPicPr/>
          <p:nvPr/>
        </p:nvPicPr>
        <p:blipFill>
          <a:blip r:embed="rId1"/>
          <a:stretch/>
        </p:blipFill>
        <p:spPr>
          <a:xfrm>
            <a:off x="4557600" y="907920"/>
            <a:ext cx="4361040" cy="22132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9" descr="http://thumbs.gograph.com/gg56903211.jpg"/>
          <p:cNvPicPr/>
          <p:nvPr/>
        </p:nvPicPr>
        <p:blipFill>
          <a:blip r:embed="rId2"/>
          <a:stretch/>
        </p:blipFill>
        <p:spPr>
          <a:xfrm>
            <a:off x="1042920" y="3645000"/>
            <a:ext cx="2879640" cy="2882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0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1187280" y="2060640"/>
            <a:ext cx="748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Qué es una visión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503280" y="3500280"/>
            <a:ext cx="8172360" cy="31687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"/>
          <p:cNvSpPr/>
          <p:nvPr/>
        </p:nvSpPr>
        <p:spPr>
          <a:xfrm>
            <a:off x="684360" y="189000"/>
            <a:ext cx="7991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  <a:ea typeface="Arial"/>
              </a:rPr>
              <a:t>Proverbs 29:18 dice: “Donde no hay visión, el pueblo se extravía;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30C7F-4058-4C05-94C1-91473F70BB1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Text Box 2"/>
          <p:cNvSpPr/>
          <p:nvPr/>
        </p:nvSpPr>
        <p:spPr>
          <a:xfrm>
            <a:off x="0" y="860400"/>
            <a:ext cx="9144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6. Establecer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META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especifica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critas</a:t>
            </a:r>
            <a:r>
              <a:rPr b="0" lang="en-US" sz="3600" spc="-1" strike="noStrike">
                <a:solidFill>
                  <a:srgbClr val="ffc000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pecífic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Realis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Med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erso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Convicció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4572000" y="2392200"/>
            <a:ext cx="4138560" cy="408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0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6F09E-B435-45C7-BDD0-520A03E0202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0" y="0"/>
            <a:ext cx="9144000" cy="85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COMUNIQUE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y clarifique con su 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   equipo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clusiones escrit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ista del proyect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ínea de tiemp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ista de recurso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Pasos siguientes (temas de acción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sponsabilidades (líderes de proyecto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1" name="Picture 4" descr="http://www.catalystdvservices.org/images/cup-phone-clipart.jpg"/>
          <p:cNvPicPr/>
          <p:nvPr/>
        </p:nvPicPr>
        <p:blipFill>
          <a:blip r:embed="rId1"/>
          <a:stretch/>
        </p:blipFill>
        <p:spPr>
          <a:xfrm>
            <a:off x="5219640" y="2425680"/>
            <a:ext cx="3732120" cy="2201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0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3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1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6" dur="5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1" dur="5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6" dur="5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1" dur="500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6" dur="500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D5D3E-264A-495A-A21A-8389E6FE341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0" y="0"/>
            <a:ext cx="914400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8. Identifique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OBSTÁCULO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posible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5" name="Picture 8" descr="j0254426"/>
          <p:cNvPicPr/>
          <p:nvPr/>
        </p:nvPicPr>
        <p:blipFill>
          <a:blip r:embed="rId1"/>
          <a:stretch/>
        </p:blipFill>
        <p:spPr>
          <a:xfrm>
            <a:off x="5173560" y="3090960"/>
            <a:ext cx="3535560" cy="315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0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73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AE32E-8E7C-4784-A69A-FAE0CDC1264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0" y="0"/>
            <a:ext cx="914400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Tenga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SISTEMA ABIERT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de planeacio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0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DMINISTRE Y DIRIJ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sus recurs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0" name="Picture 6" descr="http://www.pageresource.com/clipart/clipart/money/bills/bills-wrapped-color.png"/>
          <p:cNvPicPr/>
          <p:nvPr/>
        </p:nvPicPr>
        <p:blipFill>
          <a:blip r:embed="rId1"/>
          <a:stretch/>
        </p:blipFill>
        <p:spPr>
          <a:xfrm>
            <a:off x="3570120" y="5373720"/>
            <a:ext cx="3162600" cy="1449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0" descr="http://www.clker.com/cliparts/3/3/6/a/119498454029858016people.svg.med.png"/>
          <p:cNvPicPr/>
          <p:nvPr/>
        </p:nvPicPr>
        <p:blipFill>
          <a:blip r:embed="rId2"/>
          <a:stretch/>
        </p:blipFill>
        <p:spPr>
          <a:xfrm>
            <a:off x="395280" y="4599000"/>
            <a:ext cx="2400480" cy="2214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2" descr="http://sweetclipart.com/multisite/sweetclipart/files/hourglass_silhouette.png"/>
          <p:cNvPicPr/>
          <p:nvPr/>
        </p:nvPicPr>
        <p:blipFill>
          <a:blip r:embed="rId3"/>
          <a:stretch/>
        </p:blipFill>
        <p:spPr>
          <a:xfrm>
            <a:off x="7405560" y="4487760"/>
            <a:ext cx="1198800" cy="221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0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3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8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279EA-1336-4675-BA92-5F7B7417660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0" y="0"/>
            <a:ext cx="9144000" cy="66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1.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MONITORE</a:t>
            </a: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y </a:t>
            </a:r>
            <a:br>
              <a:rPr sz="4000"/>
            </a:b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CORRIJ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2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STUDI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o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resultad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7" name="Picture 5" descr=""/>
          <p:cNvPicPr/>
          <p:nvPr/>
        </p:nvPicPr>
        <p:blipFill>
          <a:blip r:embed="rId1"/>
          <a:stretch/>
        </p:blipFill>
        <p:spPr>
          <a:xfrm>
            <a:off x="520560" y="2946240"/>
            <a:ext cx="2705400" cy="3810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http://sweetclipart.com/multisite/sweetclipart/files/bike_red.png"/>
          <p:cNvPicPr/>
          <p:nvPr/>
        </p:nvPicPr>
        <p:blipFill>
          <a:blip r:embed="rId2"/>
          <a:stretch/>
        </p:blipFill>
        <p:spPr>
          <a:xfrm>
            <a:off x="5651640" y="1000080"/>
            <a:ext cx="327636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0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0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8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26DD7-ABF4-4B9D-908D-311198FECF0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0" y="-27000"/>
            <a:ext cx="9144000" cy="58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Respuestas: p. 21, 27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0" y="1700280"/>
            <a:ext cx="9144000" cy="64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Visión es ver el futuro, en el presente, construido sobre el pasad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“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Visión es ver lo invisible y convertirlo en visible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ón es un puente de información del presente a un mejor futur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8"/>
          <p:cNvSpPr/>
          <p:nvPr/>
        </p:nvSpPr>
        <p:spPr>
          <a:xfrm>
            <a:off x="0" y="1341360"/>
            <a:ext cx="9144000" cy="46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ON ES UNA CLARA IMAGEN DE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MEJOR MAÑAN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DADO PO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IO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QUE MUEVE A UNA PERSONA A CREER NO SOLAMENTE QUÉ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UEDE SER HECH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SINO QUÉ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EBE SER HECH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Note los ingredientes de una visión divina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0" y="1312920"/>
            <a:ext cx="914400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pintur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cambio positiv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enfoque futur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regalo de D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ente y tiempo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ogid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7289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IMIDAD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s que pasar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mpo con el Seño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Picture 7" descr="http://pinchofgrace.files.wordpress.com/2011/08/silhouette-of-woman-praying.jpg"/>
          <p:cNvPicPr/>
          <p:nvPr/>
        </p:nvPicPr>
        <p:blipFill>
          <a:blip r:embed="rId1"/>
          <a:stretch/>
        </p:blipFill>
        <p:spPr>
          <a:xfrm>
            <a:off x="5867280" y="2343240"/>
            <a:ext cx="2881440" cy="415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ONCEP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5" descr="http://ec.l.thumbs.canstockphoto.com/canstock2777881.jpg"/>
          <p:cNvPicPr/>
          <p:nvPr/>
        </p:nvPicPr>
        <p:blipFill>
          <a:blip r:embed="rId1"/>
          <a:stretch/>
        </p:blipFill>
        <p:spPr>
          <a:xfrm>
            <a:off x="2475000" y="3840120"/>
            <a:ext cx="4194000" cy="29433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"/>
          <p:cNvSpPr/>
          <p:nvPr/>
        </p:nvSpPr>
        <p:spPr>
          <a:xfrm>
            <a:off x="250920" y="2033640"/>
            <a:ext cx="86421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8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mpieza pequeno y crec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spcBef>
                <a:spcPts val="18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ecerá a Dios y t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GESTA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spcAft>
                <a:spcPts val="18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 el período más larg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e todo el proces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a visión de Dios va a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tirarte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Picture 5" descr="http://www.clipartbest.com/cliparts/ncE/a96/ncEa96acA.png"/>
          <p:cNvPicPr/>
          <p:nvPr/>
        </p:nvPicPr>
        <p:blipFill>
          <a:blip r:embed="rId1"/>
          <a:stretch/>
        </p:blipFill>
        <p:spPr>
          <a:xfrm>
            <a:off x="6921360" y="1181160"/>
            <a:ext cx="207036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23:14:14Z</dcterms:modified>
  <cp:revision>89</cp:revision>
  <dc:subject/>
  <dc:title>PowerPoint Presentation</dc:title>
</cp:coreProperties>
</file>